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342B-28CA-4059-B2F0-681EAAFF5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280A-B9C9-42B9-AFC1-0121D565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F97A-6160-4F9F-AF2A-4551466FE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57E0-020F-4E7D-8D29-A387D301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CC78-7E98-4CD9-B9C4-9FB5D73D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75CC-B6F7-46F9-9529-2D4F505E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6DEA-D5C0-4D23-9415-BAC185CE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E9D8-CA9B-467B-8066-EDD868A1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3E91-6D2E-4193-B52E-C8F136CC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DCE9-A0A1-4E52-8643-E0E57293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F40F-DD00-4B6D-99F7-FF5C9F67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B48C-7818-4A54-9786-013766E5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F2DB-0FCB-49B0-A705-1F97BD19B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924360" y="117360"/>
            <a:ext cx="489744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30844" dir="3662235" blurRad="0" rotWithShape="0">
                    <a:srgbClr val="000000">
                      <a:alpha val="80000"/>
                    </a:srgbClr>
                  </a:outerShdw>
                </a:effectLst>
                <a:latin typeface="AL-Battar"/>
              </a:rPr>
              <a:t>نظم حياتك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30844" dir="3662235" blurRad="0" rotWithShape="0">
                  <a:srgbClr val="000000">
                    <a:alpha val="80000"/>
                  </a:srgbClr>
                </a:outerShdw>
              </a:effectLst>
              <a:latin typeface="AL-Battar"/>
              <a:ea typeface="AL-Battar"/>
            </a:endParaRPr>
          </a:p>
        </p:txBody>
      </p:sp>
      <p:sp>
        <p:nvSpPr>
          <p:cNvPr id="44" name=""/>
          <p:cNvSpPr/>
          <p:nvPr/>
        </p:nvSpPr>
        <p:spPr>
          <a:xfrm>
            <a:off x="272880" y="5683320"/>
            <a:ext cx="3362400" cy="1015920"/>
          </a:xfrm>
          <a:prstGeom prst="roundRect">
            <a:avLst>
              <a:gd name="adj" fmla="val 39032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4120" y="5668920"/>
            <a:ext cx="3181320" cy="1015920"/>
          </a:xfrm>
          <a:prstGeom prst="roundRect">
            <a:avLst>
              <a:gd name="adj" fmla="val 39032"/>
            </a:avLst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5120" y="5661000"/>
            <a:ext cx="305424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AL-Mateen"/>
              </a:rPr>
              <a:t>تنفي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ff"/>
                </a:solidFill>
                <a:latin typeface="Arial"/>
                <a:cs typeface="AL-Mateen"/>
              </a:rPr>
              <a:t>علي بن حمود الحرب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907920"/>
            <a:ext cx="792000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8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كيف أستفيد من نقاط قوتي في مشاريعي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907920"/>
            <a:ext cx="792000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9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من وجهة نظري أهم نقاط ضعفي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907920"/>
            <a:ext cx="792000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1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أسباب وجود نقاط الضعف لدي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907920"/>
            <a:ext cx="792000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1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هل هناك طريقة في معـــــالجة هذه النقـــــاط مثــل  (الدراسة ، التدريب ، تعويد النفس على بعض الطباع)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907920"/>
            <a:ext cx="792000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1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هل أستطيع وضع مخطط زمني لمعالجة نقاط ضعفي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907920"/>
            <a:ext cx="792000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1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الصفات التي تعجبني في الآخرين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907920"/>
            <a:ext cx="7920000" cy="56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1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) من أهم الشخصيات الذين أعجب بهم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ن الشخصيات التاريخية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AL-Mateen"/>
              </a:rPr>
              <a:t>أ)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AL-Mateen"/>
              </a:rPr>
              <a:t>ب)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AL-Mateen"/>
              </a:rPr>
              <a:t>ج)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Matee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Mateen"/>
              </a:rPr>
              <a:t>- ما هو سبب الإعجاب بهم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)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)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)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907920"/>
            <a:ext cx="7920000" cy="58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Mateen"/>
              </a:rPr>
              <a:t>ب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ن الشخصيات المعاصرة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).........................................................................................................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)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).........................................................................................................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Mateen"/>
              </a:rPr>
              <a:t>ب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و سبب الإعجاب بهم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).........................................................................................................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).........................................................................................................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).........................................................................................................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907920"/>
            <a:ext cx="8209080" cy="60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1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ن هو الشخص الذي كان له أكبر الأثر في حياتي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1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لماذا كان لهذا الشخص ذلك التأثير الكبير في حياتي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907920"/>
            <a:ext cx="7920000" cy="62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1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أسعد لحظات حياتي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1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و السبب في كونها لحظات سعيدة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3640" y="765000"/>
            <a:ext cx="3313080" cy="792360"/>
          </a:xfrm>
          <a:custGeom>
            <a:avLst/>
            <a:gdLst>
              <a:gd name="textAreaLeft" fmla="*/ 93240 w 3313080"/>
              <a:gd name="textAreaRight" fmla="*/ 3219840 w 3313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9028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6684" y="21600"/>
                </a:lnTo>
                <a:arcTo wR="3600" hR="3600" stAng="10800000" swAng="5400000"/>
                <a:lnTo>
                  <a:pt x="90284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2"/>
            <a:srcRect/>
            <a:stretch/>
          </a:blip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AL-Hor"/>
              </a:rPr>
              <a:t>لماذا أعيش ؟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L-Ho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71640" y="1916280"/>
            <a:ext cx="4248360" cy="792000"/>
          </a:xfrm>
          <a:custGeom>
            <a:avLst/>
            <a:gdLst>
              <a:gd name="textAreaLeft" fmla="*/ 93240 w 4248360"/>
              <a:gd name="textAreaRight" fmla="*/ 4155120 w 4248360"/>
              <a:gd name="textAreaTop" fmla="*/ 93240 h 792000"/>
              <a:gd name="textAreaBottom" fmla="*/ 698760 h 792000"/>
            </a:gdLst>
            <a:ahLst/>
            <a:rect l="textAreaLeft" t="textAreaTop" r="textAreaRight" b="textAreaBottom"/>
            <a:pathLst>
              <a:path w="11582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12222" y="21600"/>
                </a:lnTo>
                <a:arcTo wR="3600" hR="3600" stAng="10800000" swAng="5400000"/>
                <a:lnTo>
                  <a:pt x="115822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3"/>
            <a:srcRect/>
            <a:stretch/>
          </a:blip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AL-Hor"/>
              </a:rPr>
              <a:t>ماذا سأحقق في حياتي ؟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L-Ho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068640"/>
            <a:ext cx="5113440" cy="792000"/>
          </a:xfrm>
          <a:custGeom>
            <a:avLst/>
            <a:gdLst>
              <a:gd name="textAreaLeft" fmla="*/ 93240 w 5113440"/>
              <a:gd name="textAreaRight" fmla="*/ 5020200 w 5113440"/>
              <a:gd name="textAreaTop" fmla="*/ 93240 h 792000"/>
              <a:gd name="textAreaBottom" fmla="*/ 698760 h 792000"/>
            </a:gdLst>
            <a:ahLst/>
            <a:rect l="textAreaLeft" t="textAreaTop" r="textAreaRight" b="textAreaBottom"/>
            <a:pathLst>
              <a:path w="13940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35804" y="21600"/>
                </a:lnTo>
                <a:arcTo wR="3600" hR="3600" stAng="10800000" swAng="5400000"/>
                <a:lnTo>
                  <a:pt x="139404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stretch/>
          </a:blip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AL-Hor"/>
              </a:rPr>
              <a:t>هل أنا سعـــــــــــــــــــــــــــيد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4221000"/>
            <a:ext cx="5834160" cy="792360"/>
          </a:xfrm>
          <a:custGeom>
            <a:avLst/>
            <a:gdLst>
              <a:gd name="textAreaLeft" fmla="*/ 93240 w 5834160"/>
              <a:gd name="textAreaRight" fmla="*/ 5740920 w 583416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897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55379" y="21600"/>
                </a:lnTo>
                <a:arcTo wR="3600" hR="3600" stAng="10800000" swAng="5400000"/>
                <a:lnTo>
                  <a:pt x="158979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AL-Hor"/>
              </a:rPr>
              <a:t>هل أنا صادق دائماَ مع نفسي وفي كل علاقاتي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7750"/>
                            </p:stCondLst>
                            <p:childTnLst>
                              <p:par>
                                <p:cTn id="4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500"/>
                            </p:stCondLst>
                            <p:childTnLst>
                              <p:par>
                                <p:cTn id="6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4500"/>
                            </p:stCondLst>
                            <p:childTnLst>
                              <p:par>
                                <p:cTn id="8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750"/>
                            </p:stCondLst>
                            <p:childTnLst>
                              <p:par>
                                <p:cTn id="10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907920"/>
            <a:ext cx="7920000" cy="45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L-Mateen"/>
              </a:rPr>
              <a:t>18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L-Mateen"/>
              </a:rPr>
              <a:t>- لو كان لدي موارد غير محددة ، ما هي الأعمال التي سأختاره القيام بها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907920"/>
            <a:ext cx="8064720" cy="28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L-Mateen"/>
              </a:rPr>
              <a:t>19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L-Mateen"/>
              </a:rPr>
              <a:t>- لو لم يبقي من عمري سوى ستة أشهر ماذا سأنجز فيها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3500280"/>
            <a:ext cx="7920000" cy="33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2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أهم ثلاث أو أربع أمور في حياتي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907920"/>
            <a:ext cx="792000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2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عندما أنظر لعملي الذي أمارسه كل يوم ما هو أهم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        عمل عملته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3500280"/>
            <a:ext cx="7920000" cy="42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2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الأعمال اليومية التي أستمتع بأدائها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 * يمكن تسجيل الأعمال اليومية وتحليلها لمدة أسبوع لتسهيل إجابة هذا السؤال والذي يلي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121428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2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أعمالي التي لها الأثر الأكبر في حياتي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788000" y="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16000" y="121428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2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مدى شعوري بالرضا عن مستوى إنجازاتي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16000" y="128736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2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كم الفجوة بين ما أريد وما أنا عليه الآن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6000" y="114300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2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الإجراءات التي أضعها لعلاج هذه الفجوة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1663560"/>
            <a:ext cx="792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L-Mateen"/>
              </a:rPr>
              <a:t>26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L-Mateen"/>
              </a:rPr>
              <a:t>- كيف أستطيع رفع مستواي الإيماني والعبادي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419640" y="476280"/>
            <a:ext cx="2808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AL-Battar"/>
              </a:rPr>
              <a:t>الجانب التطبيقي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AL-Battar"/>
              <a:ea typeface="AL-Batt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9080" y="128736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28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كيف أنمي مستواي العملي والثقافي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60360" y="1038240"/>
            <a:ext cx="792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29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الكتب التي أريد أن أقرأها 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5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% في تخصصي 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5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% في مجالات هامة يجب أن أتحسن فيها)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907920"/>
            <a:ext cx="7920000" cy="25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Mateen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Mateen"/>
              </a:rPr>
              <a:t>- ما هو مجال عملي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44720" y="264960"/>
            <a:ext cx="792000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L-Mateen"/>
              </a:rPr>
              <a:t>30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L-Mateen"/>
              </a:rPr>
              <a:t>- كيف أنمي علاقاتي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Mateen"/>
              </a:rPr>
              <a:t>أ) مع أهل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Mateen"/>
              </a:rPr>
              <a:t>ب) مع أصحاب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Mateen"/>
              </a:rPr>
              <a:t>ج) مع المحيطين ب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114300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3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كيف أنمي نفسي صحياً وجسدياً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620640"/>
            <a:ext cx="76312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3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كيف أنمي أوضاعي المالية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3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كيف أضع مخطط عملي مرتبط بزمن محدد يسهم في تنفيذ ذلك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89080" y="698400"/>
            <a:ext cx="7920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3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عيوبي التي تمنعني من تحقيق النمو في هذه الجوانب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3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كيف أعالج هذه العيوب وأتجاوزها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59280" y="176040"/>
            <a:ext cx="4176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Matee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Mateen"/>
              </a:rPr>
              <a:t>- لي أدوار في الحياة 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AL-Mateen"/>
              </a:rPr>
              <a:t>ماذا أستطيع أن أفعل ليكو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AL-Mateen"/>
              </a:rPr>
              <a:t>أدائي أفضل تجاه كل مما يل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Mateen"/>
              </a:rPr>
              <a:t> (قد لا تنطبق عليك بعض البنو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858960"/>
          <a:ext cx="5329080" cy="5481360"/>
        </p:xfrm>
        <a:graphic>
          <a:graphicData uri="http://schemas.openxmlformats.org/drawingml/2006/table">
            <a:tbl>
              <a:tblPr/>
              <a:tblGrid>
                <a:gridCol w="1220760"/>
                <a:gridCol w="4108320"/>
              </a:tblGrid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L-Mateen"/>
                        </a:rPr>
                        <a:t>أ) الوال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L-Mateen"/>
                        </a:rPr>
                        <a:t>ب) أستاذ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L-Mateen"/>
                        </a:rPr>
                        <a:t>ج) الأصدقاء والجير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L-Mateen"/>
                        </a:rPr>
                        <a:t>د) دوري الفكر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L-Mateen"/>
                        </a:rPr>
                        <a:t>هـ) دوري الاجتماع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L-Mateen"/>
                        </a:rPr>
                        <a:t>و) دوري الخير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L-Mateen"/>
                        </a:rPr>
                        <a:t>ز) الجانب المال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L-Mateen"/>
                        </a:rPr>
                        <a:t>ح).............................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AL-Mateen"/>
                        </a:rPr>
                        <a:t>ط).............................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90792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3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- اختر كلمة واحدة من كل قائم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403280" y="981000"/>
          <a:ext cx="2376720" cy="1552680"/>
        </p:xfrm>
        <a:graphic>
          <a:graphicData uri="http://schemas.openxmlformats.org/drawingml/2006/table">
            <a:tbl>
              <a:tblPr/>
              <a:tblGrid>
                <a:gridCol w="1297080"/>
                <a:gridCol w="1079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80"/>
                          </a:solidFill>
                          <a:latin typeface="MCS Zamzam S_U normal."/>
                          <a:cs typeface="Times New Roman"/>
                        </a:rPr>
                        <a:t>المتعــــ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80"/>
                          </a:solidFill>
                          <a:latin typeface="MCS Zamzam S_U normal."/>
                          <a:cs typeface="Times New Roman"/>
                        </a:rPr>
                        <a:t>الشهر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80"/>
                          </a:solidFill>
                          <a:latin typeface="MCS Zamzam S_U normal."/>
                          <a:cs typeface="Times New Roman"/>
                        </a:rPr>
                        <a:t>الثرو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5651640" y="2708280"/>
          <a:ext cx="1515960" cy="1552680"/>
        </p:xfrm>
        <a:graphic>
          <a:graphicData uri="http://schemas.openxmlformats.org/drawingml/2006/table">
            <a:tbl>
              <a:tblPr/>
              <a:tblGrid>
                <a:gridCol w="1079640"/>
                <a:gridCol w="436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80"/>
                          </a:solidFill>
                          <a:latin typeface="Times New Roman"/>
                          <a:cs typeface="MCS Zamzam S_U normal."/>
                        </a:rPr>
                        <a:t>الأمـــــــان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80"/>
                          </a:solidFill>
                          <a:latin typeface="Times New Roman"/>
                          <a:cs typeface="MCS Zamzam S_U normal."/>
                        </a:rPr>
                        <a:t>العطاء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80"/>
                          </a:solidFill>
                          <a:latin typeface="Times New Roman"/>
                          <a:cs typeface="MCS Zamzam S_U normal."/>
                        </a:rPr>
                        <a:t>المغامــــر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3564000" y="2781360"/>
          <a:ext cx="1515960" cy="1552680"/>
        </p:xfrm>
        <a:graphic>
          <a:graphicData uri="http://schemas.openxmlformats.org/drawingml/2006/table">
            <a:tbl>
              <a:tblPr/>
              <a:tblGrid>
                <a:gridCol w="901440"/>
                <a:gridCol w="614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عاطفة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عل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صحــة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5724360" y="4581360"/>
          <a:ext cx="1515960" cy="1552680"/>
        </p:xfrm>
        <a:graphic>
          <a:graphicData uri="http://schemas.openxmlformats.org/drawingml/2006/table">
            <a:tbl>
              <a:tblPr/>
              <a:tblGrid>
                <a:gridCol w="973080"/>
                <a:gridCol w="542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80"/>
                          </a:solidFill>
                          <a:latin typeface="Times New Roman"/>
                          <a:cs typeface="MCS Zamzam S_U normal."/>
                        </a:rPr>
                        <a:t>الأسر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80"/>
                          </a:solidFill>
                          <a:latin typeface="Times New Roman"/>
                          <a:cs typeface="MCS Zamzam S_U normal."/>
                        </a:rPr>
                        <a:t>الأمــ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80"/>
                          </a:solidFill>
                          <a:latin typeface="Times New Roman"/>
                          <a:cs typeface="MCS Zamzam S_U normal."/>
                        </a:rPr>
                        <a:t>أنــــــ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403280" y="4508640"/>
          <a:ext cx="1515960" cy="1552320"/>
        </p:xfrm>
        <a:graphic>
          <a:graphicData uri="http://schemas.openxmlformats.org/drawingml/2006/table">
            <a:tbl>
              <a:tblPr/>
              <a:tblGrid>
                <a:gridCol w="1079280"/>
                <a:gridCol w="436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راحة البا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حترام الآخري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تحـــــد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360360" y="6301800"/>
            <a:ext cx="89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495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* هذا الاختيار يساهم في تحديد أهدافك الرئيسية والتي تنطلق منها لترتيب حيات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90792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3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- جدول أدوارك في الحيا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340000" y="115920"/>
          <a:ext cx="3311640" cy="6654600"/>
        </p:xfrm>
        <a:graphic>
          <a:graphicData uri="http://schemas.openxmlformats.org/drawingml/2006/table">
            <a:tbl>
              <a:tblPr/>
              <a:tblGrid>
                <a:gridCol w="2232000"/>
                <a:gridCol w="107964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هدا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دو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90792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3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- جدول مشاريعي للعام القاد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47640" y="614520"/>
          <a:ext cx="4159440" cy="5449680"/>
        </p:xfrm>
        <a:graphic>
          <a:graphicData uri="http://schemas.openxmlformats.org/drawingml/2006/table">
            <a:tbl>
              <a:tblPr/>
              <a:tblGrid>
                <a:gridCol w="2511360"/>
                <a:gridCol w="1648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شاريعي خلال العام القاد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دو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90792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- جدول مشاريعي للخمس سنوات القادم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00000" y="476280"/>
          <a:ext cx="4159080" cy="5813280"/>
        </p:xfrm>
        <a:graphic>
          <a:graphicData uri="http://schemas.openxmlformats.org/drawingml/2006/table">
            <a:tbl>
              <a:tblPr/>
              <a:tblGrid>
                <a:gridCol w="1009440"/>
                <a:gridCol w="3149640"/>
              </a:tblGrid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شاريعي خلال الخمس سنوات القادمة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دو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959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4360" y="907920"/>
            <a:ext cx="792000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4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- رسالة في الحيا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AL-Mateen"/>
              </a:rPr>
              <a:t>أهداف محد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-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-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-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-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-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907920"/>
            <a:ext cx="7920000" cy="26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اهتماماتي في الحياة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" y="907920"/>
            <a:ext cx="792000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4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- الهدف الرئيسي لي في الحيا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4360" y="907920"/>
            <a:ext cx="79200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4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- عندما يترجل الفار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املأ الفراغ فيما يلي:( تخيل نفسك وقد بلغت من العمر عتيا بعمل صالح إن شاء الله وجلست مع أحفادك أو أحد القريبين منك تتذكر أهم  إنجازاتك في الحياة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* (اكتب اسمك هنا)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* كنت متميزاً في مجال (اكتب المجال الذي تود التميز فيه)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وقد أنجزت إنجازات عظيمة وحققت مشاريع كبيرة من أهمها ما يلي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5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4360" y="260280"/>
            <a:ext cx="7920000" cy="62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ختاما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لكي تحقق أهدافك في الحياة وترتب أولوياتك قد تحتاج فترة زمنية حتى تستطيع أن تملأ هذه البيانات وتحدد أولوياتك في الحياة المه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•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العزيم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•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البدء بجد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•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الاستعانة بالله تعال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•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الطاعة والبعد عن المعاص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•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الإكثار من الدعا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•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استشارة الصالحين والمختصي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•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صلاة الاستخار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•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حسن إدارة الوق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•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تطبيق ما توصلت إليه من ترتيب لأولوياتك ووضع جدول مفصل لتطبيقها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ولا تنساني من صالح دعائك وفقك الله تعالى وسدد خطا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907920"/>
            <a:ext cx="7920000" cy="36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أهم المبادئ التي أعيش وفقها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907920"/>
            <a:ext cx="835344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أهم المشاريع التي أنجزتها في حياتي حتى الآن ؟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907920"/>
            <a:ext cx="792000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ذا أحتاج الآن من قدرات وإمكانات لأحقق مشاريعي المستقبلة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907920"/>
            <a:ext cx="792000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L-Mateen"/>
              </a:rPr>
              <a:t>6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الأعمال التي أستمتع عند القيام بها؟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788000" y="115920"/>
            <a:ext cx="435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907920"/>
            <a:ext cx="792000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- ما هي من وجهة نظري أهم نقاط قوتي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9T06:45:41Z</dcterms:created>
  <dc:creator>نصيب</dc:creator>
  <dc:description/>
  <dc:language>en-US</dc:language>
  <cp:lastModifiedBy>نصيب</cp:lastModifiedBy>
  <dcterms:modified xsi:type="dcterms:W3CDTF">2004-06-26T06:01:11Z</dcterms:modified>
  <cp:revision>27</cp:revision>
  <dc:subject/>
  <dc:title>الشريحة 1</dc:title>
</cp:coreProperties>
</file>